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0EED-7AC7-44DA-AEC1-1CEB489F1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1710-B9B9-40B1-A14F-D9B62996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4EC8-7EF4-4CD5-AE11-EE861F3BE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3E6B-8E12-45B4-AF65-D3A54634F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B05E-8718-4F03-91D7-14E3B667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D6F7-ACC1-4922-89B2-0C0B171C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E34B-2DAF-4805-8E7F-C9A98E8C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1F59-3B97-4B78-8FE4-C52392C4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AC37-0D30-499B-A88C-72617F3B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3643-0D23-49D1-8AD7-97EC1EDB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1FBF-FE72-451D-BCC1-8A22EACD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F789-F811-4CBF-86F9-36811DD6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F745-0463-4F82-986E-70C38082B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tebrate Review Ques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py and answ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Compare and contrast vertebrates with the invertebrates that you have studied.  How are they alike?  How are they diffe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What is different about the nervous system of vertebra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What does the complete digestive system allow vertebrates to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How do we get changes in vertebrate characteristic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 How is the development of a vertebrate different from the development of invertebra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00:20:06Z</dcterms:created>
  <dc:creator>kmcgrady</dc:creator>
  <dc:description/>
  <dc:language>en-US</dc:language>
  <cp:lastModifiedBy>kmcgrady</cp:lastModifiedBy>
  <dcterms:modified xsi:type="dcterms:W3CDTF">2011-04-20T00:21:02Z</dcterms:modified>
  <cp:revision>1</cp:revision>
  <dc:subject/>
  <dc:title>Vertebrate Review Questions Copy and answer.</dc:title>
</cp:coreProperties>
</file>